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247-FCB4-480E-8E05-8A5DBF24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C22-9C86-4A33-8FA9-742E0FD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FC1-AFBF-4524-83F6-A6C4D35A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D44-A365-4907-B05F-2CD8022E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97E-F43E-4C24-8C4E-1C97442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4C2-6602-47AC-B163-674FE78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BB2-DAB9-4C8A-8399-95DF7AC5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165-9F55-453C-AE24-92BECE5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E44-4A10-47E1-9B9F-899150F8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62F-6701-42DF-9B09-C8A6A21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788-7A8C-4CAF-9842-31F1C9D5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7B5-1AAE-4B3C-806C-544FF593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251C-DB40-45DB-B93E-C59611A9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3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A CAS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Jackson Hor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iscina. Es grande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3915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mpo de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ampo de golf. Es pequena y estup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2567160"/>
            <a:ext cx="5791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ASA MANSION. ES MAGNIF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garaje. Es grande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2578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. Es grande y n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 de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 de deportes. Es estupendo y fabul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457360"/>
            <a:ext cx="73915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. Es lujoso 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o. Es incrible y fabul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ocina. Es estupendo y mo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7913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magnifico 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313000"/>
            <a:ext cx="59436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2:03Z</dcterms:created>
  <dc:creator>hornungjac</dc:creator>
  <dc:description/>
  <dc:language>en-US</dc:language>
  <cp:lastModifiedBy>hornungjac</cp:lastModifiedBy>
  <dcterms:modified xsi:type="dcterms:W3CDTF">2013-04-04T15:58:19Z</dcterms:modified>
  <cp:revision>5</cp:revision>
  <dc:subject/>
  <dc:title>LA CASA</dc:title>
</cp:coreProperties>
</file>